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5AB-AC00-4B27-AC10-119E9698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934-1C01-47AE-A9DD-6949ED3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B30-4F02-43F5-8143-686C3E48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E0A-5118-4812-B10F-E8D03554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F26-1CC4-4E40-BD05-E8EA450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4A8-C561-4C6A-AEB4-D0811718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5D5-60B5-4CA2-982E-E83BDC43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1DE-38A2-4C85-8164-EAFB444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A3E-1765-43E0-A406-84249EB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980-9289-46F9-8291-CBF691B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E99-F652-46D4-A34F-3AA8066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F1F-FA61-4E00-8791-D583FB8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5B3-D711-4330-AF97-17D306B4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9 Príď, Duch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ýšin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Duch svät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ýšin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, posväť nás ty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ôľu, city ovlá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irkev svoju požehn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tor Ducha, stále 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nás pýchy márni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žeň noci hriechu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pravdy vzíd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a starostí tiaž s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om naplň kýže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ôsob slávnu preme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drav dušu zrane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 Svätý, sám uč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iť radosť, lásk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kúsiť už tu nám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ám chystá večný r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18:37Z</dcterms:modified>
  <cp:revision>13</cp:revision>
  <dc:subject/>
  <dc:title>Je veľký náš Pán, on slávy je Kráľ Nech do všetkých strán  spev vrúcnych znie chvál.</dc:title>
</cp:coreProperties>
</file>